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413-4968-4911-8A07-E5EC0BA56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8F7-216D-4311-801E-83986A10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5285-0329-4369-8B14-B58E8523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9B7-69E5-4535-84A3-68190D77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A11F-A4F6-445B-8B0F-B572B725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5D6F-16CF-4D2C-96F9-812F9C13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21AB-85E8-4673-84FE-B148BFA8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91D0-124E-4C12-91BA-3445BED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26FB-B2DD-4EFE-B434-433B2142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CB2F-5FCA-4569-924F-CA183D3F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A5E8-5D5D-425C-8AF7-902FA4EC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A3F-D09D-45FF-8FAE-98CA398B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3B7A-C316-4F01-B9F8-D0D27D06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AD14-F53A-45DF-B60B-C36F74B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8D86-EBE8-497C-88C2-7588D86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CA22-6B7A-4BCF-AC51-EEA30F3C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6C79-04EC-46AF-8650-136136E6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0BE-50FB-4203-82FD-D4AAA155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589C-027C-44A3-A7C2-91BC2CF5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8A5-FF79-43DA-BAB5-FD82946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CD3-5260-4542-9E16-35920F68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F40-8727-4E0E-AA48-3CE0B0CC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D64-B606-42FB-AD3B-9686D1B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B0F-5F5E-49BB-B22A-BDEC3A25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FF3D-CC8F-437C-A1DE-87E9C580355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5AA7-59CE-4F85-AEDE-D92C135BAF7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CE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LASMA MEMBRAN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UNDARY THAT SEPARATES THE INTERNAL PARTS OF THE CELL FROM THE 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LY PERMEABLE -    CONTROLS WHAT ENTERS AND LEAVE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LL FLUID IN WHICH THE OTHER CELL PARTS ARE SUSP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URE IS SOMEWHAT LIKE GEL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RGANEL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BODIES WITHIN THE CELL THAT CARRY OUT SPECIFIC CELLULA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477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RGANELLE IS A SMALL, ROD-SHAPED BODY WITH A DOUBLE MEMBRANE (THE INNER MEMBRANE IS GREATLY FOL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CELLULAR RESPIRATION - A PROCESS WHICH RELEASES ENERGY FROM FOOD &amp; STORES IT AS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IBOSO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, GRAIN-LIKE BODY, USUALLY ATTACHED TO THE 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ARE THE PROTEIN FACTORIES OF THE CELL - THEY ARE THE SITE OF PROTEI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32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NDOPLASMIC RETICULUM (E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PARALLEL MEMBRANES THAT CONNECT THE NUCLEAR MEMBRANE WITH THE PLASMA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LIKE A SYSTEM OF CANALS TO TRANSPORT MATERIAL THROUGH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IBOSOMES ARE ATTACHED = ROUGH ER; IF NO RIBOSOMES PRESENT = SMOOT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 MAIN REGIONS OF THE CE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934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OLGI COMPLEX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GANELLE MADE OF A GROUP OF SLIGHTLY FLATTENED, STACKED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OUGHT TO CONCENTRATE &amp; STORE CELL SECRETIONS SUCH AS ENZYMES &amp;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&amp; STORES 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YSOSOM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IZED KIND OF VACUOLE THAT IS A SACK OF STORED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DIGEST PROTEINS THAT HAVE BEEN TAKEN INTO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WHITE BLOOD CELLS C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ULF &amp; DESTROY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OF PROTEIN FIBERS &amp; HOLLOW FILAMENTS THAT GIVE THE CELL ITS SHAPE AND HELP THE CELL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NTRI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DY MADE OF BUNDLES OF PROTEIN FIBERS, LOCATED NEAR THE NUCLEUS OF ANIM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SPINDLE FIBERS THAT AID IN 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ANIMAL CELL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ACUOL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S IN THE CYTOPLASM SURROUNDED BY 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TORE FOOD, WATER, O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OFTEN HAVE A LARGE, CENTRAL VACUOLE FILLED WITH WATER IN THE MIDDLE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1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GID, NON-LIVING LAYER FOUND OUTSIDE THE PLASMA MEMBRANE IN PLANTS, FUNGI, &amp;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UPPORT FOR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LANTS ITS MADE OF CELLULOSE, IN FUNGI ITS MADE OF CHI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LOROPLA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THAT CONTAIN THE PIGMENT CHLOROPH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PLANT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PHOTOSYNTHESIS IN COMPLEX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0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OL CENTER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MATERIAL (DNA) AND IS SURROUNDED BY A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OL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 DARK-STAINED BODIES WITHIN TH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RUCTURES ARE THOUGHT TO MAKE AND STORE RNA; THEY ARE THOUGHT TO HELP MAKE THE 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807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AT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, GRAINY LOOKING STUFF INSIDE THE NUCLEU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ATIN IS MADE OF TANGLES OF DNA &amp;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ORES GENETIC INFORMATION &amp; CHANGES FORM JUST BEFORE CELL DIVISION TO BECOM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LY-STAINED, PAIRED BODIES MADE OF DNA AN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LE ONLY DURING 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ONTAIN THE GENETIC INFORMATION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03:01Z</dcterms:created>
  <dc:creator>NHS</dc:creator>
  <dc:description/>
  <dc:language>en-US</dc:language>
  <cp:lastModifiedBy>Clayton Johns</cp:lastModifiedBy>
  <dcterms:modified xsi:type="dcterms:W3CDTF">2009-12-22T13:45:52Z</dcterms:modified>
  <cp:revision>22</cp:revision>
  <dc:subject/>
  <dc:title>THE CELL</dc:title>
</cp:coreProperties>
</file>